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EAE0D-2AAE-4B67-891F-94B94A68A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D6386-7DDC-4C28-8C82-C22D5B73F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88768-5EE0-4E5D-8C7D-36A891F40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471F8-34BC-4B5F-9F62-6043CCA97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B0055-0281-4D28-9F96-A1C1D6B70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A5117-C7A1-45FF-B291-365467F17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3B259-8D46-4B2A-9243-5BC00891E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C9089-F1AA-497B-80D7-A4E906A3A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DA41D-1EF0-49B2-BC61-5D158EFDB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05675-25DC-437D-8A11-8E1511E75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CDF51-9C6E-491C-8C8F-DE02EF977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AD65E-4F4D-48DC-82A3-FBB43616C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33C0-A392-4233-B1C6-4798BB59A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lvl="1" marL="743040" indent="-28584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hod overloading</a:t>
            </a:r>
            <a:endParaRPr b="0" lang="en-US" sz="2800" spc="-1" strike="noStrike">
              <a:solidFill>
                <a:srgbClr val="000000"/>
              </a:solidFill>
              <a:latin typeface="Times New Roman"/>
            </a:endParaRPr>
          </a:p>
          <a:p>
            <a:pPr lvl="1" marL="743040" indent="-28584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lization Blocks </a:t>
            </a:r>
            <a:endParaRPr b="0" lang="en-US" sz="2800" spc="-1" strike="noStrike">
              <a:solidFill>
                <a:srgbClr val="000000"/>
              </a:solidFill>
              <a:latin typeface="Times New Roman"/>
            </a:endParaRPr>
          </a:p>
          <a:p>
            <a:pPr lvl="1" marL="743040" indent="-28584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derstanding Packages</a:t>
            </a:r>
            <a:endParaRPr b="0" lang="en-US" sz="2800" spc="-1" strike="noStrike">
              <a:solidFill>
                <a:srgbClr val="000000"/>
              </a:solidFill>
              <a:latin typeface="Times New Roman"/>
            </a:endParaRPr>
          </a:p>
          <a:p>
            <a:pPr lvl="1" marL="743040" indent="-28584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cess Modifiers</a:t>
            </a:r>
            <a:endParaRPr b="0" lang="en-US" sz="2800" spc="-1" strike="noStrike">
              <a:solidFill>
                <a:srgbClr val="000000"/>
              </a:solidFill>
              <a:latin typeface="Times New Roman"/>
            </a:endParaRPr>
          </a:p>
          <a:p>
            <a:pPr lvl="1" marL="743040" indent="-28584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ing Packages and Access Modifiers</a:t>
            </a:r>
            <a:endParaRPr b="0" lang="en-US" sz="2800" spc="-1" strike="noStrike">
              <a:solidFill>
                <a:srgbClr val="000000"/>
              </a:solidFill>
              <a:latin typeface="Times New Roman"/>
            </a:endParaRPr>
          </a:p>
          <a:p>
            <a:pPr lvl="1" marL="743040" indent="-28584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tending Classes and Inheritance</a:t>
            </a:r>
            <a:endParaRPr b="0" lang="en-US" sz="2800" spc="-1" strike="noStrike">
              <a:solidFill>
                <a:srgbClr val="000000"/>
              </a:solidFill>
              <a:latin typeface="Times New Roman"/>
            </a:endParaRPr>
          </a:p>
          <a:p>
            <a:pPr lvl="1" marL="743040" indent="-28584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hod Overr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ints to Rememb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view Ques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signment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41D87A-C55D-4433-9C15-A58DE79F28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age-200"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8970733D-D788-4AB0-AEED-A5CF0F70A3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gif2" descr=""/>
          <p:cNvPicPr/>
          <p:nvPr/>
        </p:nvPicPr>
        <p:blipFill>
          <a:blip r:embed="rId1"/>
          <a:stretch/>
        </p:blipFill>
        <p:spPr>
          <a:xfrm>
            <a:off x="0" y="0"/>
            <a:ext cx="9144000" cy="6629400"/>
          </a:xfrm>
          <a:prstGeom prst="rect">
            <a:avLst/>
          </a:prstGeom>
          <a:ln w="0">
            <a:noFill/>
          </a:ln>
        </p:spPr>
      </p:pic>
      <p:sp>
        <p:nvSpPr>
          <p:cNvPr id="2" name="PlaceHolder 1"/>
          <p:cNvSpPr>
            <a:spLocks noGrp="1"/>
          </p:cNvSpPr>
          <p:nvPr>
            <p:ph type="sldNum" idx="3"/>
          </p:nvPr>
        </p:nvSpPr>
        <p:spPr/>
        <p:txBody>
          <a:bodyPr/>
          <a:p>
            <a:fld id="{6A204733-D121-49B1-AAEB-ACDB3D696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304920"/>
            <a:ext cx="86868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hoosing Access Attribut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main objective of Object-oriented programming is to encapsulate the members of the class so that to make them secure from outside interference and misuse. A good approach to achieve this objective is to:</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eep data members </a:t>
            </a:r>
            <a:r>
              <a:rPr b="1" lang="en-US" sz="2400" spc="-1" strike="noStrike">
                <a:solidFill>
                  <a:srgbClr val="000000"/>
                </a:solidFill>
                <a:latin typeface="Times New Roman"/>
              </a:rPr>
              <a:t>private</a:t>
            </a:r>
            <a:r>
              <a:rPr b="0" lang="en-US" sz="2400" spc="-1" strike="noStrike">
                <a:solidFill>
                  <a:srgbClr val="000000"/>
                </a:solidFill>
                <a:latin typeface="Times New Roman"/>
              </a:rPr>
              <a:t> and add public methods for returning their valu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eep methods </a:t>
            </a:r>
            <a:r>
              <a:rPr b="1" lang="en-US" sz="2400" spc="-1" strike="noStrike">
                <a:solidFill>
                  <a:srgbClr val="000000"/>
                </a:solidFill>
                <a:latin typeface="Times New Roman"/>
              </a:rPr>
              <a:t>public</a:t>
            </a:r>
            <a:r>
              <a:rPr b="0" lang="en-US" sz="2400" spc="-1" strike="noStrike">
                <a:solidFill>
                  <a:srgbClr val="000000"/>
                </a:solidFill>
                <a:latin typeface="Times New Roman"/>
              </a:rPr>
              <a:t> as they generally need to be accessible from outside; they provide the outside interface to the class and define the set of operations that are possible with objects of the 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pproach is not standard as there are always excep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se situ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0" lang="en-US" sz="2400" spc="-1" strike="noStrike">
                <a:solidFill>
                  <a:srgbClr val="000000"/>
                </a:solidFill>
                <a:latin typeface="Times New Roman"/>
              </a:rPr>
              <a:t> For classes in a package that are not public, and therefore not accessible outside the package , it may sometimes be convenient to allow other classes in the package direct access to the data member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4FB8F5-9251-45CE-ABBA-FD979CB514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304920"/>
            <a:ext cx="8686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0" lang="en-US" sz="2400" spc="-1" strike="noStrike">
                <a:solidFill>
                  <a:srgbClr val="000000"/>
                </a:solidFill>
                <a:latin typeface="Times New Roman"/>
              </a:rPr>
              <a:t> If you have data members that have been specified as final so that their values are fixed, and they are likely to be used outside the class, you might as well declared them to be publ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0" lang="en-US" sz="2400" spc="-1" strike="noStrike">
                <a:solidFill>
                  <a:srgbClr val="000000"/>
                </a:solidFill>
                <a:latin typeface="Times New Roman"/>
              </a:rPr>
              <a:t> You may have methods in a class that are only intended to be used internally by other methods in the class. In this case we should specify these as priv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0" lang="en-US" sz="2400" spc="-1" strike="noStrike">
                <a:solidFill>
                  <a:srgbClr val="000000"/>
                </a:solidFill>
                <a:latin typeface="Times New Roman"/>
              </a:rPr>
              <a:t> In a class like the standard class, Math, which is just a convenient container for utility functions and standard data values, you will want to make everything public.</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4700AB-2498-4951-958E-09FD957DBD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152280"/>
            <a:ext cx="876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ass Inheritance</a:t>
            </a:r>
            <a:endParaRPr b="0" lang="en-US" sz="2800" spc="-1" strike="noStrike">
              <a:solidFill>
                <a:srgbClr val="000000"/>
              </a:solidFill>
              <a:latin typeface="Times New Roman"/>
            </a:endParaRPr>
          </a:p>
        </p:txBody>
      </p:sp>
      <p:sp>
        <p:nvSpPr>
          <p:cNvPr id="56" name=""/>
          <p:cNvSpPr/>
          <p:nvPr/>
        </p:nvSpPr>
        <p:spPr>
          <a:xfrm>
            <a:off x="228600" y="685800"/>
            <a:ext cx="868680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very important feature of OOP is to create a new class based on a class that has already been defined. The new class, or derived class, is referred to as a direct subclass of the class from which it is derived. The original class is called a base class or the superclass of the derived clas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heritance means specialization. The inheritance mechanism adds all the properties of the base class to those in the derived class. The members of the derived class define the properties that differentiate it from the base type as they are the specialization of the base class object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inherited member of a derived class is a full member of that class and is freely accessible to any methods in the class. Objects of the derived class type will contain all the inherited members of the base class- both fields and methods, as well as the members that are specific to the derived clas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34EE3F-94C7-49F3-A2B3-8ED91AE575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228600"/>
            <a:ext cx="8763120" cy="679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Exercise:</a:t>
            </a:r>
            <a:r>
              <a:rPr b="0" lang="en-US" sz="2400" spc="-1" strike="noStrike">
                <a:solidFill>
                  <a:srgbClr val="000000"/>
                </a:solidFill>
                <a:latin typeface="Times New Roman"/>
              </a:rPr>
              <a:t> Define three classes Person &amp; Employee. Create an object of the Employee class and perform these opera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Job Title of the Employe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Date of Retirement of the Employe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crease Salary of the Employe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ules for Inheritance.</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clusion of members of a base class in a derived class so that they are accessible in that derived class is called the class inheritance.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inherited member of a base class is one that is accessible within the derived clas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a base class member is not accessible in a derived class, then it is not an inherited member of the derived class, but base class members that are not inherited still form part of a derived class object.</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heritance is about what members of the base class are accessible in a derived class, not what members of the base class exist in a derived class objec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88DAAB8-967D-4165-85D4-8ACA991752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0"/>
            <a:ext cx="8686800" cy="661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Animal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vate String ty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Animal (String aTy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ype = new String(aTyp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String to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turn “This is a” + type;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Dog extends Anim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private String 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vate String bre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Dog (String a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er(“Dog”);  //Call the base constru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e  = a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eed  = “Unknow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st of the methods definition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i="1" lang="en-US" sz="2000" spc="-1" strike="noStrike">
                <a:solidFill>
                  <a:srgbClr val="000000"/>
                </a:solidFill>
                <a:latin typeface="Times New Roman"/>
              </a:rPr>
              <a:t>The class Dog will only inherit the method toString( ) from the class Animal, since the private data member and the constructor cannot be inherited.</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E67C342-1F5D-4F4C-BE0E-AD9A51339D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2280" y="152280"/>
            <a:ext cx="861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heriting Data Members:</a:t>
            </a:r>
            <a:endParaRPr b="0" lang="en-US" sz="2400" spc="-1" strike="noStrike">
              <a:solidFill>
                <a:srgbClr val="000000"/>
              </a:solidFill>
              <a:latin typeface="Times New Roman"/>
            </a:endParaRPr>
          </a:p>
        </p:txBody>
      </p:sp>
      <p:pic>
        <p:nvPicPr>
          <p:cNvPr id="60" name="inherit" descr=""/>
          <p:cNvPicPr/>
          <p:nvPr/>
        </p:nvPicPr>
        <p:blipFill>
          <a:blip r:embed="rId1"/>
          <a:stretch/>
        </p:blipFill>
        <p:spPr>
          <a:xfrm>
            <a:off x="228600" y="685800"/>
            <a:ext cx="8763120" cy="5943600"/>
          </a:xfrm>
          <a:prstGeom prst="rect">
            <a:avLst/>
          </a:prstGeom>
          <a:ln w="0">
            <a:noFill/>
          </a:ln>
        </p:spPr>
      </p:pic>
      <p:sp>
        <p:nvSpPr>
          <p:cNvPr id="2" name="PlaceHolder 1"/>
          <p:cNvSpPr>
            <a:spLocks noGrp="1"/>
          </p:cNvSpPr>
          <p:nvPr>
            <p:ph type="sldNum" idx="3"/>
          </p:nvPr>
        </p:nvSpPr>
        <p:spPr/>
        <p:txBody>
          <a:bodyPr/>
          <a:p>
            <a:fld id="{0D80F910-D8B6-495E-951E-6290A99238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0"/>
            <a:ext cx="8610480" cy="679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ance Rules for Data Members/Fields</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heritance rules apply to class variables as well as instance variables.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ubclass in the same package as its base inherits everything except for private data members and those declared without access attribut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protected data member can be accessed by its subclass in any package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we define a data member with the same name as in the base class then the base class data member will be hidden by the derived class member regardless of the type or access attributes. We can refer it with the </a:t>
            </a:r>
            <a:r>
              <a:rPr b="1" lang="en-US" sz="2400" spc="-1" strike="noStrike">
                <a:solidFill>
                  <a:srgbClr val="000000"/>
                </a:solidFill>
                <a:latin typeface="Courier New"/>
              </a:rPr>
              <a:t>super</a:t>
            </a:r>
            <a:r>
              <a:rPr b="0" lang="en-US" sz="2400" spc="-1" strike="noStrike">
                <a:solidFill>
                  <a:srgbClr val="000000"/>
                </a:solidFill>
                <a:latin typeface="Times New Roman"/>
              </a:rPr>
              <a:t> keywor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Courier New"/>
              </a:rPr>
              <a:t>super</a:t>
            </a:r>
            <a:r>
              <a:rPr b="0" lang="en-US" sz="2800" spc="-1" strike="noStrike">
                <a:solidFill>
                  <a:srgbClr val="000000"/>
                </a:solidFill>
                <a:latin typeface="Times New Roman"/>
              </a:rPr>
              <a:t> Keyw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uses the </a:t>
            </a:r>
            <a:r>
              <a:rPr b="1" lang="en-US" sz="2400" spc="-1" strike="noStrike">
                <a:solidFill>
                  <a:srgbClr val="000000"/>
                </a:solidFill>
                <a:latin typeface="Courier New"/>
              </a:rPr>
              <a:t>super</a:t>
            </a:r>
            <a:r>
              <a:rPr b="1" lang="en-US" sz="2400" spc="-1" strike="noStrike">
                <a:solidFill>
                  <a:srgbClr val="000000"/>
                </a:solidFill>
                <a:latin typeface="Times New Roman"/>
              </a:rPr>
              <a:t> </a:t>
            </a:r>
            <a:r>
              <a:rPr b="0" lang="en-US" sz="2400" spc="-1" strike="noStrike">
                <a:solidFill>
                  <a:srgbClr val="000000"/>
                </a:solidFill>
                <a:latin typeface="Times New Roman"/>
              </a:rPr>
              <a:t>keyword to refer to members of the parent class. When use in the form super( ), it invokes the superclass’s constructor. When used in the form super.amethod( ), it invokes the method ‘amethod’ in the superclass and when used in the form </a:t>
            </a:r>
            <a:r>
              <a:rPr b="1" lang="en-US" sz="2400" spc="-1" strike="noStrike">
                <a:solidFill>
                  <a:srgbClr val="000000"/>
                </a:solidFill>
                <a:latin typeface="Courier New"/>
              </a:rPr>
              <a:t>super</a:t>
            </a:r>
            <a:r>
              <a:rPr b="0" lang="en-US" sz="2400" spc="-1" strike="noStrike">
                <a:solidFill>
                  <a:srgbClr val="000000"/>
                </a:solidFill>
                <a:latin typeface="Times New Roman"/>
              </a:rPr>
              <a:t>.a, it refers to the variable of the super clas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D84A35C-23C7-4F5F-9C04-0C433A81AA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ed Methods:</a:t>
            </a:r>
            <a:endParaRPr b="0" lang="en-US" sz="2800" spc="-1" strike="noStrike">
              <a:solidFill>
                <a:srgbClr val="000000"/>
              </a:solidFill>
              <a:latin typeface="Times New Roman"/>
            </a:endParaRPr>
          </a:p>
        </p:txBody>
      </p:sp>
      <p:sp>
        <p:nvSpPr>
          <p:cNvPr id="63" name=""/>
          <p:cNvSpPr/>
          <p:nvPr/>
        </p:nvSpPr>
        <p:spPr>
          <a:xfrm>
            <a:off x="609480" y="640080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 of a Sub-Class Object</a:t>
            </a:r>
            <a:endParaRPr b="0" lang="en-US" sz="2000" spc="-1" strike="noStrike">
              <a:solidFill>
                <a:srgbClr val="000000"/>
              </a:solidFill>
              <a:latin typeface="Times New Roman"/>
            </a:endParaRPr>
          </a:p>
        </p:txBody>
      </p:sp>
      <p:pic>
        <p:nvPicPr>
          <p:cNvPr id="64" name="inherit2" descr=""/>
          <p:cNvPicPr/>
          <p:nvPr/>
        </p:nvPicPr>
        <p:blipFill>
          <a:blip r:embed="rId1"/>
          <a:stretch/>
        </p:blipFill>
        <p:spPr>
          <a:xfrm>
            <a:off x="228600" y="457200"/>
            <a:ext cx="8686800" cy="6019920"/>
          </a:xfrm>
          <a:prstGeom prst="rect">
            <a:avLst/>
          </a:prstGeom>
          <a:ln w="0">
            <a:noFill/>
          </a:ln>
        </p:spPr>
      </p:pic>
      <p:sp>
        <p:nvSpPr>
          <p:cNvPr id="2" name="PlaceHolder 1"/>
          <p:cNvSpPr>
            <a:spLocks noGrp="1"/>
          </p:cNvSpPr>
          <p:nvPr>
            <p:ph type="sldNum" idx="3"/>
          </p:nvPr>
        </p:nvSpPr>
        <p:spPr/>
        <p:txBody>
          <a:bodyPr/>
          <a:p>
            <a:fld id="{22CD56D8-63F6-4DCE-BA1B-58D2B783DA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254160"/>
            <a:ext cx="8610480" cy="612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ethod Overload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allows us to define several methods in a class with the same name, as long as each method has a set of parameters that is unique. This is called method overloading. Overloaded methods may have different return types, but only if they have different arguments since the return type has no effect on the signature of a meth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itialization Block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itializing block is a block of code between braces that is executed before an object of the class is created. There are two kinds of Initialization Bloc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ic initializing block is a block defined using the keyword, static, and that is executed once when the class is loaded and can only initialize static data members of the 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n-static initializing block is executed for each object that is created and thus initialize instance variables in a clas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A73128-1EC7-41CA-9BE0-A847D7A590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80880" y="0"/>
            <a:ext cx="8382240" cy="673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ance Rules for Methods/Constructors</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thods that are not constructors, are inherited in a derived class in the same way as the data members of the base clas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tructors in the base class are never inherited, regardless of their attribut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ethods declared as private in a base class are not inherited, and those declare without an access attribute are only inherited if we define the derived class in the same package as the base clas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protected method can be accessed by its subclass in any packag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ase class methods that are inherited in a derived class can access all the base class members, including those that are not inherite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call the base class constructor from our derived class constructor by using the </a:t>
            </a:r>
            <a:r>
              <a:rPr b="1" lang="en-US" sz="2400" spc="-1" strike="noStrike">
                <a:solidFill>
                  <a:srgbClr val="000000"/>
                </a:solidFill>
                <a:latin typeface="Courier New"/>
              </a:rPr>
              <a:t>super</a:t>
            </a:r>
            <a:r>
              <a:rPr b="0" lang="en-US" sz="2400" spc="-1" strike="noStrike">
                <a:solidFill>
                  <a:srgbClr val="000000"/>
                </a:solidFill>
                <a:latin typeface="Times New Roman"/>
              </a:rPr>
              <a:t> keyword. If we don’t call a base class constructor from our derived class constructor, the compiler will try to do i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00323C-DC55-4E2C-B97E-0F38A5B6B3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914400"/>
            <a:ext cx="83822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define a method in a derived class that has the same signature as a method in the base class. The method in the derived class overrides the method in the base class and the derived class method will be called for a derived class object, not the method inherited from the base class. Overriding is similar to Overloading as different methods have the same signature but it is different in some aspects as shown belo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ethods are declared in different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overriding method must have the same return type as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iginal metho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overriding method must not be more restrictive tha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riden metho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riding methods must not throw any checked exceptions t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re not declared for the original method</a:t>
            </a:r>
            <a:endParaRPr b="0" lang="en-US" sz="2400" spc="-1" strike="noStrike">
              <a:solidFill>
                <a:srgbClr val="000000"/>
              </a:solidFill>
              <a:latin typeface="Times New Roman"/>
            </a:endParaRPr>
          </a:p>
        </p:txBody>
      </p:sp>
      <p:sp>
        <p:nvSpPr>
          <p:cNvPr id="67" name=""/>
          <p:cNvSpPr/>
          <p:nvPr/>
        </p:nvSpPr>
        <p:spPr>
          <a:xfrm>
            <a:off x="304920" y="22860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hod Overrid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5EB128D-B5AF-4323-8E1F-ED4F0BAA69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80880" y="0"/>
            <a:ext cx="8382240" cy="655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oosing Base Class Access Attribut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are no hard and fast rules but following are the guidelines we may consider: </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methods that make up the external interface to a class should be declared as public. As long as there are no overriding methods defined in a derived class, public base class methods will be inherited and fully available as part of the external interface to the derived class.</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f you expect other people will use your classes as base classes, your class will be more secure if you keep data members private, and provide public methods for accessing and manipulating them. </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ke use of the protected option when you have a package of classes in which you want uninhibited access to the data members of any class within the same package, because they operate in a closely coupled way, for instance, but you want free access to be limited to subclasses in other packages.</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mitting the access attribute for a class member makes it directly available to other classes in the same package, while preventing it from being inherited in a subclass that is not in the same package- it is effectively private when viewed from another package.</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C259906-D50C-4D40-86A1-2563CFC3C0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838080"/>
            <a:ext cx="861048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Defining methods with the same name and different argument types is called method overloading.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return data type does not contribute towards distinguishing between one method and another.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ccess to members of a class is determined by the access attributes. These can be public, private, protected, private protected, or nothing at all.</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ightly encapsulated classes hide their state variables from outside interference, typically marking all member variables as private and providing public methods for accessing them.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designate that a class is a member of a package we use a package statement at the beginning of the file contain class defini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mport statement is used to add classes or package to a file and must come immediately following any package statement.  </a:t>
            </a:r>
            <a:endParaRPr b="0" lang="en-US" sz="2400" spc="-1" strike="noStrike">
              <a:solidFill>
                <a:srgbClr val="000000"/>
              </a:solidFill>
              <a:latin typeface="Times New Roman"/>
            </a:endParaRPr>
          </a:p>
        </p:txBody>
      </p:sp>
      <p:sp>
        <p:nvSpPr>
          <p:cNvPr id="70" name=""/>
          <p:cNvSpPr/>
          <p:nvPr/>
        </p:nvSpPr>
        <p:spPr>
          <a:xfrm>
            <a:off x="380880" y="22860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Points to Remembe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E7E1C48-7EFE-420F-BCEC-0EE5ACB1EB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228600"/>
            <a:ext cx="8610480" cy="631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We can define one class based on other. The base class is called the superclass and the derived class is called subclass. A superclass can also be a subclass of another superclas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private members of a superclass are not inherited in a subclass. If the subclass is not in the same package as the superclass, then members of the superclass that do not have an access attribute are not inherite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first statement in the body of a constructor for a subclass should call a constructor for the superclass. If it does not, the compiler will insert a call for the default constructor for the superclas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subclass can re-implement the methods inherited from its superclass. If two or more subclasses, with a common base class, re-implement a common set of methods, these methods can be selected for execution at run-time.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thod overriding occurs when a class redefines a method inherited from its superclas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9BB0F9-8BCF-4490-97B1-8305332B6E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228600"/>
            <a:ext cx="8610480" cy="667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 valid override has identical argument types and order, identical return type, and is not less accessible than the original metho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ynamic method lookup ensures that the correct method is invoked for an object, even when the object is an instance of a class that has overridden the method.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atic, private, and final methods cannot be overridden and are not subject to dynamic method lookup. This allows compiler optimizations such as inlining.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a subclass, you can explicitly invoke an overridden method of a superclass with the super keywor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keyword super refers to the superclass of the class in which super appears. This can be used to call a superclass constructor or to call a superclass method.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ou can explicitly refer to a shadowed variable with the super keyword.</a:t>
            </a:r>
            <a:endParaRPr b="0" lang="en-US" sz="2400" spc="-1" strike="noStrike">
              <a:solidFill>
                <a:srgbClr val="000000"/>
              </a:solidFill>
              <a:latin typeface="Times New Roman"/>
            </a:endParaRPr>
          </a:p>
          <a:p>
            <a:pPr>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 </a:t>
            </a:r>
            <a:r>
              <a:rPr b="1" lang="en-US" sz="2400" spc="-1" strike="noStrike">
                <a:solidFill>
                  <a:srgbClr val="000000"/>
                </a:solidFill>
                <a:latin typeface="Times New Roman"/>
              </a:rPr>
              <a:t>A static method cannot be overriden to be non static in a child clas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C7EEF30-4522-48EB-A093-331F862F5E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04920" y="0"/>
            <a:ext cx="8610480" cy="6741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result of compiling and running the following cla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lass T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void methodA(short 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System.out.println(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void methodA(long 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System.out.println(i+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Test X = new T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X.methodA(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The program compiles and runs printing 5.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The program compiles and runs printing 6.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The program compiles and runs printing both 5 and 6.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rPr>
              <a:t>The program gives compilation error because methodA is defined twic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7C70C4-87F1-450E-BF97-142C6B3E41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0"/>
            <a:ext cx="8610480" cy="6375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class defini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Test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static void main(String arg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void amethod(int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would be legal to place after the comment //Here ?</a:t>
            </a:r>
            <a:br>
              <a:rPr sz="2400"/>
            </a:br>
            <a:r>
              <a:rPr b="1" lang="en-US" sz="2400" spc="-1" strike="noStrike">
                <a:solidFill>
                  <a:srgbClr val="000000"/>
                </a:solidFill>
                <a:latin typeface="Times New Roman"/>
              </a:rPr>
              <a:t>1) public int amethod(int z){  } </a:t>
            </a:r>
            <a:br>
              <a:rPr sz="2400"/>
            </a:br>
            <a:r>
              <a:rPr b="1" lang="en-US" sz="2400" spc="-1" strike="noStrike">
                <a:solidFill>
                  <a:srgbClr val="000000"/>
                </a:solidFill>
                <a:latin typeface="Times New Roman"/>
              </a:rPr>
              <a:t>2) public int amethod(int i, int j)  { return 99; } </a:t>
            </a:r>
            <a:br>
              <a:rPr sz="2400"/>
            </a:br>
            <a:r>
              <a:rPr b="1" lang="en-US" sz="2400" spc="-1" strike="noStrike">
                <a:solidFill>
                  <a:srgbClr val="000000"/>
                </a:solidFill>
                <a:latin typeface="Times New Roman"/>
              </a:rPr>
              <a:t>3) protected void amethod(long l){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private void anothermethod( ) {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4E35E8-E8B7-423D-8BBB-D64E987989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0"/>
            <a:ext cx="8610480" cy="6861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3) </a:t>
            </a:r>
            <a:r>
              <a:rPr b="0" lang="en-US" sz="2400" spc="-1" strike="noStrike">
                <a:solidFill>
                  <a:srgbClr val="000000"/>
                </a:solidFill>
                <a:latin typeface="Times New Roman"/>
              </a:rPr>
              <a:t>What will be the output of the following</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MyClass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static void main(String argv[]){</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yClass m = new MyClass(); int i=0;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method(i);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void amethod(int i)</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System.out.println(”Method1");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int amethod(int i){</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ystem.out.println(”Method2");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 0; }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thod1 followed by Method2</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Method1 only</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Method2 only</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Compilation error Method is already define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BB3D0C-F327-4D27-93EB-3116E08931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0"/>
            <a:ext cx="8610480" cy="68187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4) </a:t>
            </a:r>
            <a:r>
              <a:rPr b="0" lang="en-US" sz="2400" spc="-1" strike="noStrike">
                <a:solidFill>
                  <a:srgbClr val="000000"/>
                </a:solidFill>
                <a:latin typeface="Times New Roman"/>
              </a:rPr>
              <a:t>Assume the following class definitions in separate fi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void ameth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ClassA");</a:t>
            </a: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void ameth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ClassB");</a:t>
            </a: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static void main(String arg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 a = new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ameth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will be the output</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lassA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ClassB</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ClassA followed by ClassB</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Compilation error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ABBDB4-5F71-4F11-9A7B-F9A4F9DEB1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304920"/>
            <a:ext cx="8534160" cy="610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ckages in Java are used to resolve naming convention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package is a named collection of class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provides a convenient way to organize class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very class in Java is contained in a packag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can think of packages as libraries to be shared by many us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of grouping classes in a package is to make it easy to add the classes into our program code. One aspect of this is that the names used for the classes in one package will not interfere with the names of classes in another package, because the class names in a package are qualified by the package name as in done in these packages: </a:t>
            </a:r>
            <a:r>
              <a:rPr b="1" lang="en-US" sz="2400" spc="-1" strike="noStrike">
                <a:solidFill>
                  <a:srgbClr val="000000"/>
                </a:solidFill>
                <a:latin typeface="Arial"/>
              </a:rPr>
              <a:t>java.lang.System or java.io.InputStreamReader</a:t>
            </a:r>
            <a:r>
              <a:rPr b="0" lang="en-US" sz="2400" spc="-1" strike="noStrike">
                <a:solidFill>
                  <a:srgbClr val="000000"/>
                </a:solidFill>
                <a:latin typeface="Times New Roman"/>
              </a:rPr>
              <a:t> etc. All of the standard classes in Java are contained within package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AD9BBA-7B83-4159-995E-8654D63EE4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4920" y="0"/>
            <a:ext cx="8610480" cy="56581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5) </a:t>
            </a:r>
            <a:r>
              <a:rPr b="0" lang="en-US" sz="2400" spc="-1" strike="noStrike">
                <a:solidFill>
                  <a:srgbClr val="000000"/>
                </a:solidFill>
                <a:latin typeface="Times New Roman"/>
              </a:rPr>
              <a:t>Which of the following will compile without error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mport java.aw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ckage Mypack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lass Myclass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ckage MyPack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mport java.aw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lass MyClas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 is a commen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ckage MyPack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mport java.aw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lass MyClas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19868F-D805-4290-A073-2622F52DD3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04920" y="304920"/>
            <a:ext cx="8610480" cy="57704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6) </a:t>
            </a:r>
            <a:r>
              <a:rPr b="0" lang="en-US" sz="2400" spc="-1" strike="noStrike">
                <a:solidFill>
                  <a:srgbClr val="000000"/>
                </a:solidFill>
                <a:latin typeface="Times New Roman"/>
              </a:rPr>
              <a:t>Assume we have the following code in the file </a:t>
            </a:r>
            <a:r>
              <a:rPr b="1" lang="en-US" sz="2400" spc="-1" strike="noStrike">
                <a:solidFill>
                  <a:srgbClr val="000000"/>
                </a:solidFill>
                <a:latin typeface="Times New Roman"/>
              </a:rPr>
              <a:t>C:\abc\def\Q.java:</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ckage de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Q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nt v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d this code is in C:\abc\Tester.jav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mport def.Q;</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Tes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Q q = new Q();</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void someMeth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q.var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will happen when we try to compile this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94DC40-0BDB-4AB3-A277-CB9402B159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920" y="0"/>
            <a:ext cx="8610480" cy="6865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7) </a:t>
            </a:r>
            <a:r>
              <a:rPr b="0" lang="en-US" sz="2400" spc="-1" strike="noStrike">
                <a:solidFill>
                  <a:srgbClr val="000000"/>
                </a:solidFill>
                <a:latin typeface="Times New Roman"/>
              </a:rPr>
              <a:t>What will be the output of the following program:</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lass Tester { int var; </a:t>
            </a:r>
            <a:endParaRPr b="0" lang="en-US" sz="22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ester(double var) </a:t>
            </a:r>
            <a:endParaRPr b="0" lang="en-US" sz="22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this.var = (int)var; } </a:t>
            </a:r>
            <a:endParaRPr b="0" lang="en-US" sz="22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ester(int var)</a:t>
            </a:r>
            <a:endParaRPr b="0" lang="en-US" sz="22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this("hello"); } </a:t>
            </a:r>
            <a:endParaRPr b="0" lang="en-US" sz="22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ester(String s)</a:t>
            </a:r>
            <a:endParaRPr b="0" lang="en-US" sz="22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this(); </a:t>
            </a:r>
            <a:endParaRPr b="0" lang="en-US" sz="2200" spc="-1" strike="noStrike">
              <a:solidFill>
                <a:srgbClr val="000000"/>
              </a:solidFill>
              <a:latin typeface="Times New Roman"/>
            </a:endParaRPr>
          </a:p>
          <a:p>
            <a:pPr lvl="3" marL="13716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ystem.out.println(s); } </a:t>
            </a:r>
            <a:endParaRPr b="0" lang="en-US" sz="22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ester() </a:t>
            </a:r>
            <a:endParaRPr b="0" lang="en-US" sz="22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System.out.println("good-bye"); } </a:t>
            </a:r>
            <a:endParaRPr b="0" lang="en-US" sz="22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public static void main(String[] args)</a:t>
            </a:r>
            <a:endParaRPr b="0" lang="en-US" sz="22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Tester t = new Tester(5); } }</a:t>
            </a:r>
            <a:endParaRPr b="0" lang="en-US" sz="22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nothing          B) “hello”      C) "hello" followed by "good-bye"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  "good-bye" followed by "hello"        E)  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1180A9F-B22D-4563-A108-9675B20849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0"/>
            <a:ext cx="8610480" cy="6934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8) </a:t>
            </a:r>
            <a:r>
              <a:rPr b="0" lang="en-US" sz="2400" spc="-1" strike="noStrike">
                <a:solidFill>
                  <a:srgbClr val="000000"/>
                </a:solidFill>
                <a:latin typeface="Times New Roman"/>
              </a:rPr>
              <a:t>What will be the output of the following program:</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 Test { </a:t>
            </a:r>
            <a:endParaRPr b="0" lang="en-US" sz="20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static void main(String[] args) { </a:t>
            </a:r>
            <a:endParaRPr b="0" lang="en-US" sz="2000" spc="-1" strike="noStrike">
              <a:solidFill>
                <a:srgbClr val="000000"/>
              </a:solidFill>
              <a:latin typeface="Times New Roman"/>
            </a:endParaRPr>
          </a:p>
          <a:p>
            <a:pPr lvl="3" marL="13716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est t = new Test(); </a:t>
            </a:r>
            <a:endParaRPr b="0" lang="en-US" sz="2000" spc="-1" strike="noStrike">
              <a:solidFill>
                <a:srgbClr val="000000"/>
              </a:solidFill>
              <a:latin typeface="Times New Roman"/>
            </a:endParaRPr>
          </a:p>
          <a:p>
            <a:pPr lvl="3" marL="13716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test(1.0, 2L, 3);   } </a:t>
            </a:r>
            <a:endParaRPr b="0" lang="en-US" sz="20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test(double a, double b, short c)</a:t>
            </a:r>
            <a:endParaRPr b="0" lang="en-US" sz="20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System.out.println("1"); } </a:t>
            </a:r>
            <a:endParaRPr b="0" lang="en-US" sz="20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test(float a, byte b, byte c) </a:t>
            </a:r>
            <a:endParaRPr b="0" lang="en-US" sz="20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System.out.println("2"); } </a:t>
            </a:r>
            <a:endParaRPr b="0" lang="en-US" sz="20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test(double a, double b, double c) </a:t>
            </a:r>
            <a:endParaRPr b="0" lang="en-US" sz="20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System.out.println("3"); } </a:t>
            </a:r>
            <a:endParaRPr b="0" lang="en-US" sz="20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test(int a, long b, int c) </a:t>
            </a:r>
            <a:endParaRPr b="0" lang="en-US" sz="20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System.out.println("4"); } </a:t>
            </a:r>
            <a:endParaRPr b="0" lang="en-US" sz="20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test(long a, long b, long c) </a:t>
            </a:r>
            <a:endParaRPr b="0" lang="en-US" sz="2000" spc="-1" strike="noStrike">
              <a:solidFill>
                <a:srgbClr val="000000"/>
              </a:solidFill>
              <a:latin typeface="Times New Roman"/>
            </a:endParaRPr>
          </a:p>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System.out.println("5"); }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1             B)  2              C)  3                D)  4                   E)  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6C9C900-4E99-44AB-9AA9-10EC1C4C16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04920" y="152280"/>
            <a:ext cx="8610480" cy="61934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9) </a:t>
            </a:r>
            <a:r>
              <a:rPr b="0" lang="en-US" sz="2400" spc="-1" strike="noStrike">
                <a:solidFill>
                  <a:srgbClr val="000000"/>
                </a:solidFill>
                <a:latin typeface="Times New Roman"/>
              </a:rPr>
              <a:t>Given the following class defini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 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ublic void a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ystem.out.println("Base");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blic class Hay extends 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ublic static void main(String arg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Hay h = new H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h.amethod();</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methods in class Hay would compile and cause the program to print out the string "H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public int amethod(){ System.out.println("Hay");}</a:t>
            </a:r>
            <a:br>
              <a:rPr sz="2400"/>
            </a:br>
            <a:r>
              <a:rPr b="0" lang="en-US" sz="2400" spc="-1" strike="noStrike">
                <a:solidFill>
                  <a:srgbClr val="000000"/>
                </a:solidFill>
                <a:latin typeface="Times New Roman"/>
              </a:rPr>
              <a:t>2) public void amethod(long l){ System.out.println("Hay");}</a:t>
            </a:r>
            <a:br>
              <a:rPr sz="2400"/>
            </a:br>
            <a:r>
              <a:rPr b="0" lang="en-US" sz="2400" spc="-1" strike="noStrike">
                <a:solidFill>
                  <a:srgbClr val="000000"/>
                </a:solidFill>
                <a:latin typeface="Times New Roman"/>
              </a:rPr>
              <a:t>3) public void amethod(){ System.out.println("Hay");}</a:t>
            </a:r>
            <a:br>
              <a:rPr sz="2400"/>
            </a:br>
            <a:r>
              <a:rPr b="0" lang="en-US" sz="2400" spc="-1" strike="noStrike">
                <a:solidFill>
                  <a:srgbClr val="000000"/>
                </a:solidFill>
                <a:latin typeface="Times New Roman"/>
              </a:rPr>
              <a:t>4) public void amethod(void){ System.out.println("Hay");}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4914CD8-A12F-49E4-987B-5D17C16A26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152280"/>
            <a:ext cx="8610480" cy="70473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10) </a:t>
            </a:r>
            <a:r>
              <a:rPr b="0" lang="en-US" sz="2400" spc="-1" strike="noStrike">
                <a:solidFill>
                  <a:srgbClr val="000000"/>
                </a:solidFill>
                <a:latin typeface="Times New Roman"/>
              </a:rPr>
              <a:t>Consider these classes declared in separate source fi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blic class 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ublic void method(int 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ystem.out.println(“Value is ” + i);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blic class Sub extends Bas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ublic void method(int j)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ystem.out.println(“This value is ” + j);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ublic void method(String 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ystem.out.println(“I was passed ” + 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ublic static void main(String argv[])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ase b1 = new Base( );    Base b2 = new Sub(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1.method(5);</a:t>
            </a:r>
            <a:r>
              <a:rPr b="1" lang="en-US" sz="2000" spc="-1" strike="noStrike">
                <a:solidFill>
                  <a:srgbClr val="000000"/>
                </a:solidFill>
                <a:latin typeface="Times New Roman"/>
              </a:rPr>
              <a:t>	</a:t>
            </a:r>
            <a:r>
              <a:rPr b="1" lang="en-US" sz="2000" spc="-1" strike="noStrike">
                <a:solidFill>
                  <a:srgbClr val="000000"/>
                </a:solidFill>
                <a:latin typeface="Times New Roman"/>
              </a:rPr>
              <a:t> b2.method(6);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utput results when the main method of the class Sub is r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Value is 5 followed by Value is 6</a:t>
            </a:r>
            <a:br>
              <a:rPr sz="2400"/>
            </a:br>
            <a:r>
              <a:rPr b="0" lang="en-US" sz="2400" spc="-1" strike="noStrike">
                <a:solidFill>
                  <a:srgbClr val="000000"/>
                </a:solidFill>
                <a:latin typeface="Times New Roman"/>
              </a:rPr>
              <a:t>2) This value is 5 followed by This value is 6</a:t>
            </a:r>
            <a:br>
              <a:rPr sz="2400"/>
            </a:br>
            <a:r>
              <a:rPr b="0" lang="en-US" sz="2400" spc="-1" strike="noStrike">
                <a:solidFill>
                  <a:srgbClr val="000000"/>
                </a:solidFill>
                <a:latin typeface="Times New Roman"/>
              </a:rPr>
              <a:t>3) Value is 5 followed by This value is 6 </a:t>
            </a:r>
            <a:br>
              <a:rPr sz="2400"/>
            </a:br>
            <a:r>
              <a:rPr b="0" lang="en-US" sz="2400" spc="-1" strike="noStrike">
                <a:solidFill>
                  <a:srgbClr val="000000"/>
                </a:solidFill>
                <a:latin typeface="Times New Roman"/>
              </a:rPr>
              <a:t>4) This value is 5 followed by Value is 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 was passed 5 followed by I was passed 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978842F-4990-4798-B388-B5FE3D2CDD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914400"/>
            <a:ext cx="8458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1) Define a class for rectangle objects defined by two points, the top left and bottom-right corners of the rectangle. Include a constructor to copy a rectangle, a method to return a rectangle object, that encloses the current object and the rectangle passed as an argument, and a method to display the defining points of a rectangle. Test the class by creating four rectangles and combining these cumulatively, to end up with a rectangle enclosing them all. Output the defining points of all the rectangles you cre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2) Exercise No. 2 of Page 219 of the Book “Beginning Java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3) Exercise No. 3 of Page 219 of the Book “Beginning Java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4) Exercise No. 4 of Page 219 of the Book “Beginning Java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28600" y="30492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ssign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6F556F0-FFA0-4FD3-BB9C-848D3976D2B8}"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228600"/>
            <a:ext cx="861048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s and the Directory Structu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ges are hierarchical, and you can have packages within packages. We can use levels of nesting to ensure the uniqueness of package na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designers recommend that you use your Internet domain name server in reverse order as a package prefix. This avoids naming conflicts because Internet domain names are unique. Suppose we want to create a package named </a:t>
            </a:r>
            <a:r>
              <a:rPr b="1" lang="en-US" sz="2400" spc="-1" strike="noStrike">
                <a:solidFill>
                  <a:srgbClr val="000000"/>
                </a:solidFill>
                <a:latin typeface="Courier New"/>
              </a:rPr>
              <a:t>myPackage</a:t>
            </a:r>
            <a:r>
              <a:rPr b="0" lang="en-US" sz="2400" spc="-1" strike="noStrike">
                <a:solidFill>
                  <a:srgbClr val="000000"/>
                </a:solidFill>
                <a:latin typeface="Times New Roman"/>
              </a:rPr>
              <a:t> on a host machine with the Internet domain name operationBadar.pk.edu. To follow the naming convention, we would name the entire package </a:t>
            </a:r>
            <a:r>
              <a:rPr b="1" lang="en-US" sz="2400" spc="-1" strike="noStrike">
                <a:solidFill>
                  <a:srgbClr val="000000"/>
                </a:solidFill>
                <a:latin typeface="Courier New"/>
              </a:rPr>
              <a:t>edu.pk.operationBadar.myPack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expects one-to-one mapping of the package name and the file system directory structure. For the package named edu.pk.operationBadar.myPackage.io, we must create a directory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du ---</a:t>
            </a:r>
            <a:r>
              <a:rPr b="1" sz="2400" spc="-1" strike="noStrike">
                <a:solidFill>
                  <a:srgbClr val="000000"/>
                </a:solidFill>
                <a:latin typeface="Courier New"/>
              </a:rPr>
              <a:t>&gt;pk-</a:t>
            </a:r>
            <a:r>
              <a:rPr b="1" lang="en-US" sz="2400" spc="-1" strike="noStrike">
                <a:solidFill>
                  <a:srgbClr val="000000"/>
                </a:solidFill>
                <a:latin typeface="Courier New"/>
              </a:rPr>
              <a:t>-</a:t>
            </a:r>
            <a:r>
              <a:rPr b="1" sz="2400" spc="-1" strike="noStrike">
                <a:solidFill>
                  <a:srgbClr val="000000"/>
                </a:solidFill>
                <a:latin typeface="Courier New"/>
              </a:rPr>
              <a:t>-&gt;operationBadar</a:t>
            </a:r>
            <a:r>
              <a:rPr b="1" lang="en-US" sz="2400" spc="-1" strike="noStrike">
                <a:solidFill>
                  <a:srgbClr val="000000"/>
                </a:solidFill>
                <a:latin typeface="Courier New"/>
              </a:rPr>
              <a:t>-</a:t>
            </a:r>
            <a:r>
              <a:rPr b="1" sz="2400" spc="-1" strike="noStrike">
                <a:solidFill>
                  <a:srgbClr val="000000"/>
                </a:solidFill>
                <a:latin typeface="Courier New"/>
              </a:rPr>
              <a:t>--&gt; myPack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EC5FFE-AF02-405B-8C25-AB04727286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228600"/>
            <a:ext cx="8610480" cy="600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ing up your Class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dding classes in a package, just write a package statement as the first statement in the source file containing the class definition. A package statement consists of the keyword, </a:t>
            </a:r>
            <a:r>
              <a:rPr b="1" lang="en-US" sz="2400" spc="-1" strike="noStrike">
                <a:solidFill>
                  <a:srgbClr val="000000"/>
                </a:solidFill>
                <a:latin typeface="Courier New"/>
              </a:rPr>
              <a:t>package</a:t>
            </a:r>
            <a:r>
              <a:rPr b="0" lang="en-US" sz="2400" spc="-1" strike="noStrike">
                <a:solidFill>
                  <a:srgbClr val="000000"/>
                </a:solidFill>
                <a:latin typeface="Times New Roman"/>
              </a:rPr>
              <a:t>, followed by the package name, and is terminated by a semi-colon. For example, to include the class Sphere in a package called geometry, the contents of the file Sphere.java would need to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ge geomet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Sp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tails of the class defini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lass that you want to include in the package geometry must contain the same package statement at the beginning, and you should save all the files for the classes in the package in a directory with the same name as the package, that is, geometr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9E0006-47F5-4D28-9D95-5732390E4E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0"/>
            <a:ext cx="8915400" cy="673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ing a Pack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options for 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but not the best, is to leave the .class files for the classes in the package in the directory with the package 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class files in the original package directory, either the path to your package must appear in the string set for the CLASSPATH environment variable, or you must use the classpath option on the command line when you invoke the compiler and the interpreter. e.g. we can set the CLASSPATH environment variable in autoexec.bat file as: set CLASSPATH = C:\MySource; C:\MyPack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set the path to our packages only since the path to the standard packages are always known by the Compiler and the Interpre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way to handle packages provides a way of adding extensions to the set of standard pack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s are .jar files stored within the ext directory that is created when we install the JDK. Java Archive or JAR is the compression utility used for packaging Java classes. All the standard classes that come with the JDK are packaged in a JAR archive, </a:t>
            </a:r>
            <a:r>
              <a:rPr b="1" lang="en-US" sz="2400" spc="-1" strike="noStrike">
                <a:solidFill>
                  <a:srgbClr val="000000"/>
                </a:solidFill>
                <a:latin typeface="Courier New"/>
              </a:rPr>
              <a:t>rt.ja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C105C0-246C-4F4F-952D-2FE77DFA08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age-196"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53E38ED5-7BD1-457B-B6BB-4D6C97C715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228600"/>
            <a:ext cx="8686800" cy="686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asses and packages in the .jar archives that you place in the ext directory will automatically be accessible when we compile and run Java programs, without the need to set CLASSPATH environment variable, or to use the –classpath command line option.  If we want to store our Geometry package in an archive,we use the following comm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Programs\Geometry&gt; jar cvf Geometry.jar Geometry\*.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ill create the archive Geometry.jar, and add all the .class files that are in the Geometry directory to it. To make the package available to any program just copy it to the </a:t>
            </a:r>
            <a:r>
              <a:rPr b="1" lang="en-US" sz="2400" spc="-1" strike="noStrike">
                <a:solidFill>
                  <a:srgbClr val="000000"/>
                </a:solidFill>
                <a:latin typeface="Courier New"/>
              </a:rPr>
              <a:t>ext</a:t>
            </a:r>
            <a:r>
              <a:rPr b="0" lang="en-US" sz="2400" spc="-1" strike="noStrike">
                <a:solidFill>
                  <a:srgbClr val="000000"/>
                </a:solidFill>
                <a:latin typeface="Times New Roman"/>
              </a:rPr>
              <a:t> directory in the JDK.</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dding Classes from a Packag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dd all or any of the classes in a package to the code in our program by using an import state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to make available of all the classes in the java.io package we write </a:t>
            </a:r>
            <a:r>
              <a:rPr b="0" lang="en-US" sz="2400" spc="-1" strike="noStrike">
                <a:solidFill>
                  <a:srgbClr val="000000"/>
                </a:solidFill>
                <a:latin typeface="Courier New"/>
              </a:rPr>
              <a:t>import java.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we can add a particular class from the package e.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mport java.io.InputStre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8ADD4B4-2858-4458-AC16-DABFAB403C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0"/>
            <a:ext cx="8686800" cy="711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lso use a class without using import statement directly  by its full name 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io.InputStream a = new java.io.BufferedStreamRea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 The * can only be used to select all the classes in a package. You can’t use it to select all the packages in a directory. </a:t>
            </a: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ss Attribu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cessibility of class members (i.e. data and method) are controlled by access attributes. Encapsulation in Java can be achieved through these access modifiers. Java provides four possibilities for specifying an access attribute of a class memb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Attribut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Permitted acc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aul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rom any class in the same packag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rom any class anywher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t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 access from outside the class at al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e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rom any class in the same package and fro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y subclass any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ider the diagrams belo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FCDD6CA-F62F-4429-B86A-A7E070D58F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1T19:48:42Z</dcterms:created>
  <dc:creator>Mahmood Khan</dc:creator>
  <dc:description/>
  <dc:language>en-US</dc:language>
  <cp:lastModifiedBy>MAHMOOD</cp:lastModifiedBy>
  <dcterms:modified xsi:type="dcterms:W3CDTF">2001-05-26T07:15:50Z</dcterms:modified>
  <cp:revision>259</cp:revision>
  <dc:subject/>
  <dc:title>Outline:</dc:title>
</cp:coreProperties>
</file>